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8FF8-ECC6-40E6-B381-A2E4652E6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29B4-7A96-4D3D-B5AA-38C32FA3EF94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4517-38A0-4DE4-9913-005BB7D5D105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C716-AAC0-4C87-86B6-66E24CF17DB3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6282-DC98-4E01-B1FF-F7FD0ED50CF6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EA39-D6AE-4FF6-A2DE-EC13C8B81F0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D672-B77A-4A03-9E7B-DF2B74AAC5DD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5252-EDA9-4E8B-9767-A57C97658966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7555-A278-41CE-A23A-6C9A67CB3C8D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88CD-21FA-48E1-B8BB-430036477C5C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23A1-0B31-48A7-8740-4CB08F2EAC47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D52C-8EFC-48D6-8234-EA7E24D3F030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B23D-3228-4A01-A8A3-B59D0894D2C4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0B2E-0EE1-46C2-B094-94072B037C60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FB1B-978C-495C-BFBF-E7705A16EA56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950D-F419-4913-BEB1-7FB1033632BB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A317-F6E6-4907-9F35-06D9D3437B1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197A-B9A2-449F-A299-3E6754B69C9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E341-1DA8-4FC9-B2DA-B7618F8E5893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EC62-99C4-43EE-BEE0-29AA21B969C2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3C4C-024F-4F77-8E72-97F213420267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20F3-AC41-45BB-AF5A-2E7E5FB4A0F1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C888-AA7D-4E73-9235-792DDB5C047E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19BD-F49C-4D57-BD39-EC874885768F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1FAD-190C-47F7-B4FB-86032A0D4136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05E-33B0-47F5-AB1C-4E95B417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293-0575-4199-938E-6161DDCA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3D4-B4BE-49EF-BCD5-AC72A0A8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7F7-B4D5-4DB0-B0E8-23623CA6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7C7E-E2C2-42EB-9FF2-AD73882D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3A22-E9E9-4F90-A93B-C49B79B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9768-AE76-4717-A412-09B010F3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58AB-97D3-4ECE-972A-4DF89E13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0EE3-19F5-4277-84FD-2E7AB7F1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C5CC-D121-4ABE-8B42-084BA264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29CB-6CF7-4D8C-BD18-3E9E16E6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BE3-747E-452B-BBAA-ED9EBB93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7DCA-BB92-4715-8730-C228A9F4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55E6-437D-4236-BD88-7AF2DCBF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57E8-5511-4050-99A3-3122FEE6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E472-16D9-4C63-8E0A-3320758D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7878-B10B-40D7-9AAB-4417E5A1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7CF-A56E-41F7-B9A5-C5B41007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356-C2FB-4351-AD47-96063A25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FBB8-6AF9-4791-A8DA-B85F7B35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87F-4E2E-4F76-8D84-D8F2F511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BB3-97F4-4A1B-B5B5-9F9E017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03F-6FA5-452D-B739-2091041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C31-6600-4E9C-845A-426542B6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E099-E99A-4902-BA9E-C5144E37E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A888-6763-4BC6-BBF4-C6C5E247B458}" type="slidenum">
              <a:rPr b="0" lang="en-US" sz="1400" spc="-1" strike="noStrike">
                <a:solidFill>
                  <a:srgbClr val="5d22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Tahoma"/>
              </a:rPr>
              <a:t>Ecolog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Tahoma"/>
              </a:rPr>
              <a:t>The study of ecosystem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Tahoma"/>
              </a:rPr>
              <a:t>Chapter 21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Marine (Salt Water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Location:  Oceans &amp; Estuari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Types of Organisms:  Kelp, Whales, Dolphins, Sharks, Tuna, Crabs, Shrimp, Lobsters, Salmon, Eels, Plankto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Zone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reas in which there is the presence of light from the sun (plants can grow in this zone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reas in which no light from the sun is present (very few organisms live in this zone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Freshwat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Wetlands, Rivers, Streams, Ponds, Lakes, &amp; Creek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ypes of Organisms:  Algae, Muskrats, Ducks, Geese, Fish, Pike, Carp, Bass, &amp; Catfish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164"/>
                </a:solidFill>
                <a:latin typeface="Tahoma"/>
              </a:rPr>
              <a:t>Estuary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shallow area where salt water and fresh water mix </a:t>
            </a:r>
            <a:r>
              <a:rPr b="0" i="1" lang="en-US" sz="2400" spc="-1" strike="noStrike">
                <a:solidFill>
                  <a:srgbClr val="212164"/>
                </a:solidFill>
                <a:latin typeface="Tahoma"/>
              </a:rPr>
              <a:t>(where a river or stream meets the ocean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164"/>
                </a:solidFill>
                <a:latin typeface="Tahoma"/>
              </a:rPr>
              <a:t>Wetland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area where fresh water, salt water, and land mix (marshes, swamps, and bog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164"/>
                </a:solidFill>
                <a:latin typeface="Tahoma"/>
              </a:rPr>
              <a:t>Tundr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Location:  northern North America, northern Europe, northern Asi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Climate:  Cold, ground stays covered in snow, permafrost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permanent frozen layer of ground, scarce rainfall, very short summ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Tundra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mosses, lichens, small plants that do need a lot of wa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caribou, migrating birds (come for the short summer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Tropical Rain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near the Equator, Africa, &amp; South Americ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 and Humid, rains everyda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ropical Rain Fores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Plants:  Jungle (think Tarzan), very tall trees, thick vegetation on the ground, dense canop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nimals:  parrots, Apes, Toucans, Monkeys, Leopards, other predatory Cats, Snak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Conifer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Canada, Washington (State), Russia, Chin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long cold Winters, short Summers, frequent Rain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Conifer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Evergreens (think Christmas Trees), Pines, Spruces, Cedars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Moose, Bear, Lynx, Hibernating Animals, Migrating Animal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cidu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eastern United States (think about where we live), most of Europe, Australi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 Summers, cold Winters, Rainfall throughout the yea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Ecology is the study of organisms and their interaction with the environm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 organism is any living th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Examples:  Humans, animals, plant, bacteri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cidu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Trees that lose their leaves, Maples, Oaks, Hickories, Sycamores, Willow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Bears, Foxes, Raccoons, Deer, Squirrels, Bird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Desert</a:t>
            </a: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Africa (think Scorpion King or the Mummy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, can snow at night, sparse Rainfal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ser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Succulent Plants (retain water in the leaves), Cacti, and small Shrub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Lizards, Snakes, small Rodents, other Roden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Grassla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Midwest United States (think Little House on the Prairie), Africa (think the Lion King), Asia, South Americ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long dry periods with occasional fir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Grasslan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Plants:  several species of Grasses, scattered Trees, and Wildflow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nimals:  burrowing Animals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Rabbits, Moles, &amp; Rodents, grazing Animals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Buffalo, Zebras, and Giraffes, Lions, and Hyena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The Biospher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he biosphere is the living worl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ncludes any organisms that are found in the air, on land, or in the wa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The Ecosystem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s a self supporting area composed of living and nonliving things such as the Rain Forest or the Deser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t produces energy, transfers energy, decomposes, and recycl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t made up of two (2) types of factors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Biotic and Abiotic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biotic Facto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re non living parts of the environment such as rocks, the sun, and temperatu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3" name="Picture 4" descr="0254-river-rocks"/>
          <p:cNvPicPr/>
          <p:nvPr/>
        </p:nvPicPr>
        <p:blipFill>
          <a:blip r:embed="rId1"/>
          <a:stretch/>
        </p:blipFill>
        <p:spPr>
          <a:xfrm>
            <a:off x="4038480" y="205740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8320" y="182844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Biotic Facto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The living parts of the environment such as plants, bacteria, and animal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6" name="Picture 8" descr="black_lab1"/>
          <p:cNvPicPr/>
          <p:nvPr/>
        </p:nvPicPr>
        <p:blipFill>
          <a:blip r:embed="rId1"/>
          <a:stretch/>
        </p:blipFill>
        <p:spPr>
          <a:xfrm>
            <a:off x="4495680" y="4043520"/>
            <a:ext cx="4334040" cy="2814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Picture 11" descr="040525-pintails_800"/>
          <p:cNvPicPr/>
          <p:nvPr/>
        </p:nvPicPr>
        <p:blipFill>
          <a:blip r:embed="rId2"/>
          <a:stretch/>
        </p:blipFill>
        <p:spPr>
          <a:xfrm>
            <a:off x="533520" y="2590920"/>
            <a:ext cx="38145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ommunit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Is composed of all of the populations of different organisms living together in a given are such as your lawn (contains grass, insects, and worms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 population is a group of organisms that belong to the same species &amp; live in a given area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Tahoma"/>
              </a:rPr>
              <a:t>Ex:  heard of cattle of a gaggle of gees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Biom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s a major type of ecosystem with its own temperature ranges, rainfall amounts, and types of organism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4" descr="rainforest"/>
          <p:cNvPicPr/>
          <p:nvPr/>
        </p:nvPicPr>
        <p:blipFill>
          <a:blip r:embed="rId1"/>
          <a:stretch/>
        </p:blipFill>
        <p:spPr>
          <a:xfrm>
            <a:off x="533520" y="3809880"/>
            <a:ext cx="297180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esert-scrub-australia-web"/>
          <p:cNvPicPr/>
          <p:nvPr/>
        </p:nvPicPr>
        <p:blipFill>
          <a:blip r:embed="rId2"/>
          <a:stretch/>
        </p:blipFill>
        <p:spPr>
          <a:xfrm>
            <a:off x="4876920" y="3813120"/>
            <a:ext cx="380988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Aquatic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Land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8:56:56Z</dcterms:created>
  <dc:creator>Administrator</dc:creator>
  <dc:description/>
  <dc:language>en-US</dc:language>
  <cp:lastModifiedBy>Denice Fogel User</cp:lastModifiedBy>
  <dcterms:modified xsi:type="dcterms:W3CDTF">2013-06-09T23:43:51Z</dcterms:modified>
  <cp:revision>58</cp:revision>
  <dc:subject/>
  <dc:title>Slide 1</dc:title>
</cp:coreProperties>
</file>